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0A5E-C9F9-477E-8594-5F35D66DC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have seen from current Hughes Spalding Children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CE2-2434-4605-8AF7-FF67D149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188-034E-46A1-BAB2-34DC4F7F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863-5D7A-4C43-BB9D-3414FBF1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6C8-2ABA-4B0A-9399-66D871D8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70E9-895B-45BC-BB6A-811AC854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931A-D329-4D62-A10F-3A9B0DAB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C14C-9C01-4AFB-ADB4-574D9008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8F24-FBCD-45B7-BD62-2E9D3A3C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6FFE-6B92-437C-BE19-0B826A51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61CC-E520-48D9-8E66-209D7218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369E-6551-44C3-ADB0-DE3CB0A3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05B-4572-4602-AB6F-F0ECA4E3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26F1-0BEC-4E2D-9E4D-E45C2CDF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ACE6-6173-4A9A-BEAD-B1C6E564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F545-1F81-4CB1-9A63-5B01C050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4A1F-F169-448C-B892-3CEBC7E8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2693-BC8C-4DE0-997B-C53FA751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568-8FB8-44E6-9666-D5703D14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6A6-31EF-4AA9-9F60-750B8874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F86-2D35-42BB-BD14-173539F9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7AC-7188-4092-82D9-2FAAB95A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04E-396F-4ADC-9400-4134443B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D90-8484-4A8B-8FDE-47B52042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7F4-6305-46E7-B71B-F2E0ECD5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F76B-7029-4DF4-B0C2-C00FFCAD3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500D-619F-43DB-BEBB-D3FE3909F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Transformation of Pediatric Care Sp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5028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diatric Design of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TRANSFOR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ianna Jewell, Jamie Beyer, Jiten Chhabra, Hui Ca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429000" cy="277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90720" y="14479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905120" y="14479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8077320" y="14479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162920" y="14479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248520" y="1447920"/>
            <a:ext cx="91440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594360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00800" y="5943600"/>
            <a:ext cx="9144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228600" y="2971800"/>
            <a:ext cx="4040280" cy="303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4067280" y="1905120"/>
            <a:ext cx="4086000" cy="3065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18288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ere are more than one user gro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Ki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distractions for ki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ze the waiting area (kids drawings artwork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as active distraction and therapy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ill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kids: “ I-Dog tour guid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check-in (personal data, temperatur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finding audio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resources and experiences (audio care-p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he kids keep connected with thei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533412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8515440" y="563868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505720" y="6334200"/>
            <a:ext cx="638280" cy="523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8229600" y="4952880"/>
            <a:ext cx="9144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ar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Informatio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screen shows the status of wai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education device (Information about the disease and procedure in different ro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space for parents, staff and other soci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orner for parents where they can send email, fax and provide other relate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627696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095880" y="6281640"/>
            <a:ext cx="9144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uvenate” the Waiting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23880"/>
            <a:ext cx="8153280" cy="0"/>
          </a:xfrm>
          <a:prstGeom prst="line">
            <a:avLst/>
          </a:prstGeom>
          <a:ln w="127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ce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and contro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definition of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7620120" y="627696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>
            <a:lum bright="-54000"/>
          </a:blip>
          <a:stretch/>
        </p:blipFill>
        <p:spPr>
          <a:xfrm>
            <a:off x="7086600" y="6381720"/>
            <a:ext cx="628560" cy="476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8305920" y="6172200"/>
            <a:ext cx="637920" cy="523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095880" y="6281640"/>
            <a:ext cx="91440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209680" y="3429000"/>
            <a:ext cx="3962520" cy="2689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209680" y="3429000"/>
            <a:ext cx="39625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Recurring Patients with Preferred N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601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to store which patients have had which n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ng system for n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patients will be placed in the available room which has a positively rated n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ffective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506680" cy="388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Cams btw Patient and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camera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isolation, ICU and procedures using local anesthesia where family is not allowed in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osks in waiting room and option to have one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30480" cy="309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PACES AND DESIGNS FOR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MOTE MONITORING OF CHRONIC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60344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886200" y="2971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676520" y="1828800"/>
            <a:ext cx="1614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EDIATRIC CHRONIC DIS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) SICKEL CELL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ccinations Pnuemo, Hep B, H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lic Acid + Penecillin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soocclusive crisis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2) ASTH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Me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st Att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FT’S ABG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)TYPE 1 DIABETES MELLI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ulin Do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erci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52:45Z</dcterms:created>
  <dc:creator>HCAI3</dc:creator>
  <dc:description/>
  <dc:language>en-US</dc:language>
  <cp:lastModifiedBy>HCAI3</cp:lastModifiedBy>
  <dcterms:modified xsi:type="dcterms:W3CDTF">2007-09-20T18:05:59Z</dcterms:modified>
  <cp:revision>24</cp:revision>
  <dc:subject/>
  <dc:title>Transformation of Pediatric Care Space</dc:title>
</cp:coreProperties>
</file>